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9D7-87B1-4568-B8E4-B35766A5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5D4-E286-4391-AE38-DB7893BF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A04-C4E0-4EBF-A9A9-942A529D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0AE-70FB-46D5-B5B6-262CB1C4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EC2-EBDF-4F00-81DF-2C928DD0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700-FCAB-4C32-A30A-3D39E044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AEB-DB54-4F2F-BC05-5DCEAEBC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520-BDB8-40C7-B07E-D2E00B73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691-336F-4EB4-ABE5-12BC03FC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619-6E25-4411-880F-1339AB3E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068-E578-4D6D-B9D9-C37F9646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C87-2087-40A3-9B32-E33F6DE5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BC62-FCEC-48BE-BDAF-F9B7AA27088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0" b="64088"/>
          <a:stretch/>
        </p:blipFill>
        <p:spPr>
          <a:xfrm>
            <a:off x="0" y="44280"/>
            <a:ext cx="9109080" cy="11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0" t="43678" r="0" b="0"/>
          <a:stretch/>
        </p:blipFill>
        <p:spPr>
          <a:xfrm>
            <a:off x="179280" y="2708280"/>
            <a:ext cx="8713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ميت سورة الأعراف بهذا الا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لفظ (الأعراف) فيها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06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 إلا الآيات من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6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إلى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70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فمدن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5295960" cy="576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71628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407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43354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6"/>
          <p:cNvCxnSpPr/>
          <p:nvPr/>
        </p:nvCxnSpPr>
        <p:spPr>
          <a:xfrm flipH="1">
            <a:off x="8456040" y="49413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479736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عث والجنة والنا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8"/>
          <p:cNvSpPr/>
          <p:nvPr/>
        </p:nvSpPr>
        <p:spPr>
          <a:xfrm>
            <a:off x="8820000" y="4327560"/>
            <a:ext cx="0" cy="20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19"/>
          <p:cNvCxnSpPr/>
          <p:nvPr/>
        </p:nvCxnSpPr>
        <p:spPr>
          <a:xfrm flipH="1">
            <a:off x="8456040" y="4652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4459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حيد والرسا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1"/>
          <p:cNvCxnSpPr/>
          <p:nvPr/>
        </p:nvCxnSpPr>
        <p:spPr>
          <a:xfrm flipH="1">
            <a:off x="8456040" y="53319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515772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ص الأنبياء والأمم الساب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56685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55180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بعض القضايا الاجتماع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8920" y="60098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5600" y="5834160"/>
            <a:ext cx="82090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بعض الآداب والأخلاق الإسلام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7"/>
          <p:cNvCxnSpPr/>
          <p:nvPr/>
        </p:nvCxnSpPr>
        <p:spPr>
          <a:xfrm flipH="1">
            <a:off x="8458920" y="63468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5600" y="6194520"/>
            <a:ext cx="8209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المعاصي والإعراض عن طاعة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1424160" y="1700280"/>
            <a:ext cx="7372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